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B5623-C674-4D07-A120-B067E5C7D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73DCD-50E7-4CC8-A6B4-25294A2FC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32BE3-688E-419B-B4BD-50A839A4C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F88D8-8D44-447D-B026-EFA58E135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85DF0-72A4-4BC0-A678-CADF5FB52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F282E-D56D-476F-81BA-B26FCD1D1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93230-CB68-470E-A2C2-D2CA048AE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D6C82-BA1A-4FFD-B125-AB45A900D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1F4DF-A868-4706-AB9B-1D8BA902A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FA345-0DF6-4FD6-B5F3-1DE129302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5F81D-5ECC-4506-AD40-1B6A0842D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BDE14-6942-4D48-9163-632D44527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813FA-1ACF-4184-A3DF-FB004E575293}" type="slidenum">
              <a:rPr b="0" lang="pt-BR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07136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Arial"/>
                <a:ea typeface="Arial"/>
              </a:rPr>
              <a:t>Escola Estadual Leontino Alves de Oliveira </a:t>
            </a:r>
            <a:br>
              <a:rPr sz="4000"/>
            </a:br>
            <a:r>
              <a:rPr b="1" lang="pt-BR" sz="4000" spc="-1" strike="noStrike">
                <a:solidFill>
                  <a:srgbClr val="000000"/>
                </a:solidFill>
                <a:latin typeface="Arial"/>
                <a:ea typeface="Arial"/>
              </a:rPr>
              <a:t>Município: Rio Negro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85840" y="2357280"/>
            <a:ext cx="821520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PROGETEC: Elizangela Maria dos Santos Arrud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GRUPO DE ESTUDO E DISCUSSÃO DO NÚCLEO DE TECNOLOGIAS EDUCACIONAIS REG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(GED NTE-REGIONAL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CaixaDeTexto 4"/>
          <p:cNvSpPr/>
          <p:nvPr/>
        </p:nvSpPr>
        <p:spPr>
          <a:xfrm>
            <a:off x="214200" y="285840"/>
            <a:ext cx="8715600" cy="55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Metodologia para quem quer aprender Pedro Dem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Em sociedades  que prezam mais o conhecimento como fundamento imprescindível da autonomia, estudar não se vincula a procedimentos instrucionais, mas têndencialmente à dedicação desconstrutiva/reconstrutiva sistemátic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501040" cy="5000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4400"/>
            </a:br>
            <a:br>
              <a:rPr sz="4400"/>
            </a:br>
            <a:br>
              <a:rPr sz="3200"/>
            </a:br>
            <a:br>
              <a:rPr sz="32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CaixaDeTexto 2"/>
          <p:cNvSpPr/>
          <p:nvPr/>
        </p:nvSpPr>
        <p:spPr>
          <a:xfrm>
            <a:off x="357120" y="357120"/>
            <a:ext cx="835812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Entre nós, aprender coincide com ter aula, confunde – se aula com aprendizagem, isto está demonstrado na LDB quando se estatuíram os 200 dias letivos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Dados do Inep (Saeb), demonstram que aumentar aula não significa melhor aproveitamento. Os dados insinuam que as aulas não produzem aprendizag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CaixaDeTexto 2"/>
          <p:cNvSpPr/>
          <p:nvPr/>
        </p:nvSpPr>
        <p:spPr>
          <a:xfrm>
            <a:off x="500040" y="428760"/>
            <a:ext cx="8215200" cy="71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É difícil convencer disso o professor, já que se identifica com suas aulas e acredita que o aluno necessita delas como oxigênio para sua vid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Aprender é uma dinâmica de dentro para fora, tendo o aprendiz na condição de sujeito e não de ouvinte. Aula só faz sentido se o aluno aprender bem e isto não ocor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CaixaDeTexto 3"/>
          <p:cNvSpPr/>
          <p:nvPr/>
        </p:nvSpPr>
        <p:spPr>
          <a:xfrm>
            <a:off x="214200" y="285840"/>
            <a:ext cx="8715600" cy="71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Estudar não é hábito entre os professores, foram formados em instituições instrucionistas, muito distanciadas da pesquisa e elaboração própria conviveram com professores que apenas davam aula e não estudavam, foram avaliados sempre pela prova reprodutiva e agora possuem um diploma, que, supostamente, os dispensaria de estuda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tângulo 4"/>
          <p:cNvSpPr/>
          <p:nvPr/>
        </p:nvSpPr>
        <p:spPr>
          <a:xfrm>
            <a:off x="285840" y="500040"/>
            <a:ext cx="8572320" cy="18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CaixaDeTexto 5"/>
          <p:cNvSpPr/>
          <p:nvPr/>
        </p:nvSpPr>
        <p:spPr>
          <a:xfrm>
            <a:off x="357120" y="428760"/>
            <a:ext cx="857268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O estudo bem feito sempre resulta em autoria, o que retira do interesse procedimentos de cópia, transmissão, aquisição. Estudar bem não combina com receber conteúdos simplificados, abreviados, resumidos, via aul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Não se estuda apenas o que dá prazer, porque o que é importante nem sempre é prazeroso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Estudioso é quem tem motivação própria para estuda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24T15:06:18Z</dcterms:created>
  <dc:creator>user</dc:creator>
  <dc:description/>
  <dc:language>en-US</dc:language>
  <cp:lastModifiedBy>user</cp:lastModifiedBy>
  <dcterms:modified xsi:type="dcterms:W3CDTF">2015-03-25T02:04:53Z</dcterms:modified>
  <cp:revision>11</cp:revision>
  <dc:subject/>
  <dc:title>Escola Estadual Leontino Alves de Oliveira  Município: Rio Negro</dc:title>
</cp:coreProperties>
</file>